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A38-45F5-4A38-8733-E1EA0CB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A75-F909-4AFB-85CD-C4FA585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751-6225-4EA8-B003-1AFB9D99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6B8-EA93-4627-9304-0BB23EEF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750-4EFD-4C38-849D-393C52D1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4EA-A258-44AF-9E0B-ADCE6D76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F65-9690-4E12-A91B-9EA211A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73A-614A-446C-99FE-8BF07E6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77F-1D17-42D1-BC12-3B0CA151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1B4-46D3-4EF6-A6B2-A200C38D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62-1B35-4239-BF85-F6D2FE1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065-3D7C-429F-9D8D-B2DB354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8F2A-C064-4DB2-BC88-BB0471C09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692280"/>
            <a:ext cx="69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Компьюте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фи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00000" y="2997360"/>
            <a:ext cx="7417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Georgia"/>
              </a:rPr>
              <a:t>"БАЙТ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1835280" y="189000"/>
            <a:ext cx="5761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195640" y="184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484360" y="260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48360" y="40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012000" y="170028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6720" y="2997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995640" y="4005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851280" y="57340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24000" y="33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835280" y="189000"/>
            <a:ext cx="5761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24000" y="177336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484360" y="260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148360" y="404640"/>
            <a:ext cx="12967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156360" y="162864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76720" y="292428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995640" y="414972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51280" y="5877000"/>
            <a:ext cx="12970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908000" y="476280"/>
            <a:ext cx="5040360" cy="331164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124000" y="692280"/>
            <a:ext cx="4608720" cy="230328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124000" y="3284640"/>
            <a:ext cx="4608720" cy="287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948360" y="692280"/>
            <a:ext cx="576360" cy="280800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258920" y="692280"/>
            <a:ext cx="649080" cy="2808000"/>
          </a:xfrm>
          <a:prstGeom prst="rect">
            <a:avLst/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524720" y="979560"/>
            <a:ext cx="360360" cy="2232000"/>
          </a:xfrm>
          <a:prstGeom prst="rect">
            <a:avLst/>
          </a:prstGeom>
          <a:solidFill>
            <a:srgbClr val="3333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900000" y="907920"/>
            <a:ext cx="360360" cy="2232000"/>
          </a:xfrm>
          <a:prstGeom prst="rect">
            <a:avLst/>
          </a:prstGeom>
          <a:solidFill>
            <a:srgbClr val="3333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995640" y="3789360"/>
            <a:ext cx="936720" cy="863640"/>
          </a:xfrm>
          <a:prstGeom prst="rect">
            <a:avLst/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1547640" y="4653000"/>
            <a:ext cx="5977080" cy="1008000"/>
          </a:xfrm>
          <a:prstGeom prst="hexagon">
            <a:avLst>
              <a:gd name="adj" fmla="val 148241"/>
              <a:gd name="vf" fmla="val 115470"/>
            </a:avLst>
          </a:prstGeom>
          <a:solidFill>
            <a:srgbClr val="7dc4c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826920" y="51577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7451640" y="51577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V="1">
            <a:off x="826920" y="5157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8169120" y="5135400"/>
            <a:ext cx="6480" cy="812880"/>
          </a:xfrm>
          <a:custGeom>
            <a:avLst/>
            <a:gdLst/>
            <a:ahLst/>
            <a:rect l="l" t="t" r="r" b="b"/>
            <a:pathLst>
              <a:path w="4" h="512">
                <a:moveTo>
                  <a:pt x="4" y="51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24000" y="6021360"/>
            <a:ext cx="2519280" cy="36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227640" y="5950080"/>
            <a:ext cx="2519640" cy="36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2411280" y="1125360"/>
            <a:ext cx="4032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Лот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4000" y="1197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полните задания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4656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дите числа в восьмеричную систему счис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дите числа в десятичную систему счис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r>
                        <a:rPr b="1" lang="ru-RU" sz="4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79280" y="1872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ервый портативный электронный калькулятор был выпущен американским филиалом японской фирм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5640" y="1628640"/>
          <a:ext cx="7777080" cy="15843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280"/>
                <a:gridCol w="973440"/>
                <a:gridCol w="971280"/>
              </a:tblGrid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05"/>
          <p:cNvSpPr/>
          <p:nvPr/>
        </p:nvSpPr>
        <p:spPr>
          <a:xfrm>
            <a:off x="-1286640" y="3352320"/>
            <a:ext cx="2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3500280"/>
          <a:ext cx="7777080" cy="1581480"/>
        </p:xfrm>
        <a:graphic>
          <a:graphicData uri="http://schemas.openxmlformats.org/drawingml/2006/table">
            <a:tbl>
              <a:tblPr/>
              <a:tblGrid>
                <a:gridCol w="971280"/>
                <a:gridCol w="973440"/>
                <a:gridCol w="971280"/>
                <a:gridCol w="973080"/>
                <a:gridCol w="971640"/>
                <a:gridCol w="971640"/>
                <a:gridCol w="973080"/>
                <a:gridCol w="971640"/>
              </a:tblGrid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04"/>
          <p:cNvSpPr/>
          <p:nvPr/>
        </p:nvSpPr>
        <p:spPr>
          <a:xfrm>
            <a:off x="250920" y="523944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3399"/>
                </a:solidFill>
                <a:latin typeface="Arial"/>
              </a:rPr>
              <a:t>году. Он весил около килограмма и “знал” только четыре действия арифмети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33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5280" y="9068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ервый портативный электронный калькулятор был выпущен американским филиалом японской фирм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700280"/>
          <a:ext cx="7777440" cy="15843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9640" y="3645000"/>
          <a:ext cx="7777440" cy="1582560"/>
        </p:xfrm>
        <a:graphic>
          <a:graphicData uri="http://schemas.openxmlformats.org/drawingml/2006/table">
            <a:tbl>
              <a:tblPr/>
              <a:tblGrid>
                <a:gridCol w="971640"/>
                <a:gridCol w="97308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67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r>
                        <a:rPr b="1" lang="ru-RU" sz="3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64"/>
          <p:cNvSpPr/>
          <p:nvPr/>
        </p:nvSpPr>
        <p:spPr>
          <a:xfrm>
            <a:off x="611280" y="5589360"/>
            <a:ext cx="79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333399"/>
                </a:solidFill>
                <a:latin typeface="Arial"/>
              </a:rPr>
              <a:t>году. Он весил около килограмма и “знал” только четыре действия арифмети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68360" y="692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 заданным координатам точек, представленных в различных системах счисления, постройте графический рису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1268280"/>
            <a:ext cx="439236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492360" y="1268280"/>
            <a:ext cx="374364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372360" y="1341360"/>
            <a:ext cx="25192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 = 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356000" y="479736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у № 3 и точку № 6 соединить прямой ли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33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1692360" y="475920"/>
            <a:ext cx="0" cy="576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403280" y="5950080"/>
            <a:ext cx="727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2556000" y="1125360"/>
            <a:ext cx="4681440" cy="4321080"/>
            <a:chOff x="2556000" y="1125360"/>
            <a:chExt cx="4681440" cy="4321080"/>
          </a:xfrm>
        </p:grpSpPr>
        <p:sp>
          <p:nvSpPr>
            <p:cNvPr id="66" name="Rectangle 7"/>
            <p:cNvSpPr/>
            <p:nvPr/>
          </p:nvSpPr>
          <p:spPr>
            <a:xfrm>
              <a:off x="2556000" y="1125360"/>
              <a:ext cx="4681440" cy="432108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3419640" y="1125360"/>
              <a:ext cx="3024000" cy="12952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5653080" y="1269720"/>
              <a:ext cx="574560" cy="93672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0"/>
            <p:cNvSpPr/>
            <p:nvPr/>
          </p:nvSpPr>
          <p:spPr>
            <a:xfrm>
              <a:off x="4140360" y="2998800"/>
              <a:ext cx="1512720" cy="136836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1"/>
            <p:cNvSpPr/>
            <p:nvPr/>
          </p:nvSpPr>
          <p:spPr>
            <a:xfrm>
              <a:off x="4861080" y="3646440"/>
              <a:ext cx="72720" cy="7308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3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гда был впервые выпущен гибкий магнитный диск, вы узнаете, решив следующие цепочк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84360" y="2205000"/>
            <a:ext cx="2087280" cy="1368360"/>
          </a:xfrm>
          <a:prstGeom prst="cloudCallout">
            <a:avLst>
              <a:gd name="adj1" fmla="val 85740"/>
              <a:gd name="adj2" fmla="val -533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708360" y="2060640"/>
            <a:ext cx="1943280" cy="1368360"/>
          </a:xfrm>
          <a:prstGeom prst="cloudCallout">
            <a:avLst>
              <a:gd name="adj1" fmla="val 89134"/>
              <a:gd name="adj2" fmla="val 916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6443640" y="2060640"/>
            <a:ext cx="2085840" cy="1368360"/>
          </a:xfrm>
          <a:prstGeom prst="cloudCallout">
            <a:avLst>
              <a:gd name="adj1" fmla="val 9134"/>
              <a:gd name="adj2" fmla="val 116124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6588000" y="4221000"/>
            <a:ext cx="1870200" cy="1368720"/>
          </a:xfrm>
          <a:prstGeom prst="cloudCallout">
            <a:avLst>
              <a:gd name="adj1" fmla="val -97282"/>
              <a:gd name="adj2" fmla="val -765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3635280" y="4221000"/>
            <a:ext cx="1944720" cy="1368720"/>
          </a:xfrm>
          <a:prstGeom prst="cloudCallout">
            <a:avLst>
              <a:gd name="adj1" fmla="val -89347"/>
              <a:gd name="adj2" fmla="val 7888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539640" y="4221000"/>
            <a:ext cx="2159280" cy="1368720"/>
          </a:xfrm>
          <a:prstGeom prst="cloudCallout">
            <a:avLst>
              <a:gd name="adj1" fmla="val 70662"/>
              <a:gd name="adj2" fmla="val 116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2843280" y="25653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5724360" y="2565360"/>
            <a:ext cx="719280" cy="504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5400000">
            <a:off x="7236720" y="3572640"/>
            <a:ext cx="792000" cy="504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 rot="10800000">
            <a:off x="5651640" y="4581000"/>
            <a:ext cx="792000" cy="505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rot="10630800">
            <a:off x="2700000" y="465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580000" y="321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 1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508720" y="5373720"/>
            <a:ext cx="16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+ 36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25892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549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омпания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BM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представила первый в мире гибкий диск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8360" y="1700280"/>
            <a:ext cx="2087640" cy="1368360"/>
          </a:xfrm>
          <a:prstGeom prst="cloudCallout">
            <a:avLst>
              <a:gd name="adj1" fmla="val 101180"/>
              <a:gd name="adj2" fmla="val -40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059280" y="1555920"/>
            <a:ext cx="2520720" cy="1368360"/>
          </a:xfrm>
          <a:prstGeom prst="cloudCallout">
            <a:avLst>
              <a:gd name="adj1" fmla="val 84194"/>
              <a:gd name="adj2" fmla="val -694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1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227640" y="1555920"/>
            <a:ext cx="2521080" cy="1368360"/>
          </a:xfrm>
          <a:prstGeom prst="cloudCallout">
            <a:avLst>
              <a:gd name="adj1" fmla="val 14231"/>
              <a:gd name="adj2" fmla="val 3724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877080" y="3645000"/>
            <a:ext cx="1870200" cy="1368360"/>
          </a:xfrm>
          <a:prstGeom prst="cloudCallout">
            <a:avLst>
              <a:gd name="adj1" fmla="val -76060"/>
              <a:gd name="adj2" fmla="val -7541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708360" y="3716280"/>
            <a:ext cx="2448000" cy="1368360"/>
          </a:xfrm>
          <a:prstGeom prst="cloudCallout">
            <a:avLst>
              <a:gd name="adj1" fmla="val -72310"/>
              <a:gd name="adj2" fmla="val -649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63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324000" y="3645000"/>
            <a:ext cx="2662200" cy="1368360"/>
          </a:xfrm>
          <a:prstGeom prst="cloudCallout">
            <a:avLst>
              <a:gd name="adj1" fmla="val 74865"/>
              <a:gd name="adj2" fmla="val -92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197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2484360" y="2060640"/>
            <a:ext cx="647640" cy="50472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5580000" y="19875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 rot="5400000">
            <a:off x="7416720" y="3031920"/>
            <a:ext cx="863640" cy="50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 rot="10800000">
            <a:off x="6156360" y="4005360"/>
            <a:ext cx="720720" cy="504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 rot="10630800">
            <a:off x="2916000" y="4076280"/>
            <a:ext cx="792000" cy="504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364000" y="2708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 1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580000" y="486900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+ 3600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042920" y="508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Лот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05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полните таблицу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700280"/>
          <a:ext cx="7559640" cy="4779720"/>
        </p:xfrm>
        <a:graphic>
          <a:graphicData uri="http://schemas.openxmlformats.org/drawingml/2006/table">
            <a:tbl>
              <a:tblPr/>
              <a:tblGrid>
                <a:gridCol w="1803240"/>
                <a:gridCol w="1803240"/>
                <a:gridCol w="2009880"/>
                <a:gridCol w="1943280"/>
              </a:tblGrid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1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20:48:01Z</dcterms:created>
  <dc:creator>User</dc:creator>
  <dc:description/>
  <dc:language>en-US</dc:language>
  <cp:lastModifiedBy>Joni_mnim</cp:lastModifiedBy>
  <dcterms:modified xsi:type="dcterms:W3CDTF">2011-04-27T12:58:39Z</dcterms:modified>
  <cp:revision>21</cp:revision>
  <dc:subject/>
  <dc:title>Системы счисления</dc:title>
</cp:coreProperties>
</file>